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688-3EEB-4539-B146-AC3F9850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F3B-F441-471B-ABC8-C8484E4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746-139D-496F-80CD-F027FAD1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EA6-1C49-4A89-B4B1-2FE6EB77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C73A-634F-49BF-89EA-AECC5712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322-4FE5-4070-ACEB-ED1CE0C2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E2E5-8926-492E-932C-1E7F08F4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AC31-F868-4D73-8239-BC73B436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914-778E-41ED-85A4-73729AC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7B5A-6996-4A2B-BE76-B04644C5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3F83-282A-4D7C-92B1-26EC96E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ED2-D6BC-44A7-8060-453765C0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CBE3-6891-44BC-95A8-A9725AF8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8EE4-1F93-4DFD-A596-AFE1987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BCC-99C3-4BF0-8ABE-FFBF3E4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8D9-5AF1-4F3E-9CF7-52B1F136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6F50-6138-4531-911D-19E04616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97A6-54C5-45DD-8C7E-7EB8E22B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E73D-9504-41D6-8C0E-EEE0A7A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D126-D557-424A-BDB5-09332E61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08E2-D486-48C7-BA1C-84B2C281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3B2E-8502-41CD-A0C0-68448E4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E98-DDD9-45D3-8B6E-F281696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D08F-E799-4689-908A-66766367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2F6A-95C4-425E-A9ED-E8CDC62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619D-D3D1-4434-9AF7-738E6BF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848F-D79E-4153-9369-E3DD77F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47C1-BA5B-4BB5-9F90-849DC64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BD87-ED7E-4C66-9710-89968587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79F0-205D-403A-A81D-51EC0ECD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DBFE-893A-4B14-B2A1-76694D8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418B-247A-47B2-81BE-F0B3AE1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2156D-DC78-4E87-A5C8-8A590139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FD8-9727-460E-9D79-F330B5B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A5E0-9EDD-411E-B1EF-489EB4B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0F6D-3D35-4618-8815-1838F5E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4937-E2B5-4121-B4CF-25A89DE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104F-FACD-496F-9EA2-C8B9A4F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C494-AE2C-49F1-955C-E669D68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6941-AC58-4D2E-AC53-CA83C897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B749-EE9B-45B8-A8C1-B305CC3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B1F9-1CC4-4794-BE2D-7DC55856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8333-D0B1-4AE3-A98A-9E09DAE5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6673-CDAC-4983-85BB-BDB2ACAC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AC5-18A0-4404-B9D3-B8107A4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5469-1E2F-405B-8E2F-9054A5B8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A988-587E-474F-8284-58C87000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3F43-0D74-4085-8AAF-0F45490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1D5B-4BC5-48C7-9DE2-AB9935C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FF01-4370-4BC4-8847-BD21236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6B23-E22D-4598-8847-E878CB8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D9A5-F7C5-41A8-A605-949B6F2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AB42-8EB2-4D6A-9D07-DDFAD54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44E0-0623-4CA6-8979-9DF3E7A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77EE-8D50-4141-B0F2-7A51E97A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917-745D-413D-B065-435F93C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8D38-B5A5-4D2D-8DB0-16810BB8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B2D-E812-4B94-BFD6-9F668B3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A15-3A3D-486B-9F2F-0D3616B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9E4-0ADC-4364-8E40-B398E50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4C6-78EB-4044-B652-F57F6D5150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67E-5702-4852-B616-4EDF946A61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E8A-802C-4157-A479-82A6A5F8791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023-6A03-4805-ACEC-D1628A39B85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C55-8C68-425D-B485-F70C6CFBA6F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5.1a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Access information from a variety of primary and secondary sources, including electronic text, experts, and prime resources, to locate information relevant to research questio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5.1a 014.jpg"/>
          <p:cNvPicPr/>
          <p:nvPr/>
        </p:nvPicPr>
        <p:blipFill>
          <a:blip r:embed="rId1"/>
          <a:srcRect l="7934" t="12255" r="9763" b="32222"/>
          <a:stretch/>
        </p:blipFill>
        <p:spPr>
          <a:xfrm>
            <a:off x="1676520" y="380880"/>
            <a:ext cx="54864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8d3e"/>
                </a:solidFill>
                <a:latin typeface="Verdana"/>
              </a:rPr>
              <a:t>How can a reader select the best source for information about a research topic?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Sourc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ary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a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view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et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yewitness accoun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similar about these resources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se are all primary sources.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imary sources are often available as electronic texts on Web sites, and this makes it possible to look at original documents that would otherwise not be availab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yclopedi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ctiona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xt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tory 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similar about these resource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all Secondary 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5.1a 009.jpg"/>
          <p:cNvPicPr/>
          <p:nvPr/>
        </p:nvPicPr>
        <p:blipFill>
          <a:blip r:embed="rId1"/>
          <a:srcRect l="0" t="7778" r="0" b="38816"/>
          <a:stretch/>
        </p:blipFill>
        <p:spPr>
          <a:xfrm>
            <a:off x="1143000" y="380880"/>
            <a:ext cx="6934320" cy="60962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2514600" y="4572000"/>
            <a:ext cx="426708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rimary and secondary sources are valuable when researching information on a topic, but it is important to evaluate the available sources to see which is the best one to u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5.1a 010.jpg"/>
          <p:cNvPicPr/>
          <p:nvPr/>
        </p:nvPicPr>
        <p:blipFill>
          <a:blip r:embed="rId1"/>
          <a:srcRect l="8804" t="7778" r="10179" b="63872"/>
          <a:stretch/>
        </p:blipFill>
        <p:spPr>
          <a:xfrm>
            <a:off x="457200" y="609480"/>
            <a:ext cx="8201160" cy="47246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38080" y="5562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topic of this pass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5.1a 010.jpg"/>
          <p:cNvPicPr/>
          <p:nvPr/>
        </p:nvPicPr>
        <p:blipFill>
          <a:blip r:embed="rId1"/>
          <a:srcRect l="7934" t="36083" r="11591" b="25020"/>
          <a:stretch/>
        </p:blipFill>
        <p:spPr>
          <a:xfrm>
            <a:off x="1676520" y="533520"/>
            <a:ext cx="7086600" cy="56386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457200" y="1447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prim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33520" y="2971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second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09680" y="1447920"/>
            <a:ext cx="6324840" cy="1066680"/>
          </a:xfrm>
          <a:prstGeom prst="rect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09680" y="2514600"/>
            <a:ext cx="6324840" cy="16002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209680" y="4114800"/>
            <a:ext cx="6324840" cy="1523880"/>
          </a:xfrm>
          <a:prstGeom prst="rect">
            <a:avLst/>
          </a:prstGeom>
          <a:solidFill>
            <a:srgbClr val="b45f07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8d3e"/>
                </a:solidFill>
                <a:latin typeface="Verdana"/>
              </a:rPr>
              <a:t>How can a reader select the best source for information about a research topic?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pic being resear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dditional information about the topic could be resear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ources ar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ther the information is likely to be in the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C:\Documents and Settings\maxweel\Local Settings\Temporary Internet Files\Content.IE5\C5UFK5QN\MP900439510[1].jpg"/>
          <p:cNvPicPr/>
          <p:nvPr/>
        </p:nvPicPr>
        <p:blipFill>
          <a:blip r:embed="rId1"/>
          <a:stretch/>
        </p:blipFill>
        <p:spPr>
          <a:xfrm>
            <a:off x="6248520" y="3505320"/>
            <a:ext cx="224784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5.1a 011.jpg"/>
          <p:cNvPicPr/>
          <p:nvPr/>
        </p:nvPicPr>
        <p:blipFill>
          <a:blip r:embed="rId1"/>
          <a:srcRect l="4277" t="14443" r="7934" b="25557"/>
          <a:stretch/>
        </p:blipFill>
        <p:spPr>
          <a:xfrm>
            <a:off x="1752480" y="457200"/>
            <a:ext cx="5334120" cy="6000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2362320" y="2133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the topic of this paragraph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2819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prim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457200" y="4267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second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5.1a 012.jpg"/>
          <p:cNvPicPr/>
          <p:nvPr/>
        </p:nvPicPr>
        <p:blipFill>
          <a:blip r:embed="rId1"/>
          <a:srcRect l="9763" t="12222" r="9763" b="38889"/>
          <a:stretch/>
        </p:blipFill>
        <p:spPr>
          <a:xfrm>
            <a:off x="18288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5.1a 013.jpg"/>
          <p:cNvPicPr/>
          <p:nvPr/>
        </p:nvPicPr>
        <p:blipFill>
          <a:blip r:embed="rId1"/>
          <a:srcRect l="7934" t="12222" r="9763" b="33332"/>
          <a:stretch/>
        </p:blipFill>
        <p:spPr>
          <a:xfrm>
            <a:off x="1676520" y="380880"/>
            <a:ext cx="563868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9:40Z</dcterms:created>
  <dc:creator>maxweel</dc:creator>
  <dc:description/>
  <dc:language>en-US</dc:language>
  <cp:lastModifiedBy>maxweel</cp:lastModifiedBy>
  <dcterms:modified xsi:type="dcterms:W3CDTF">2010-10-15T16:55:43Z</dcterms:modified>
  <cp:revision>17</cp:revision>
  <dc:subject/>
  <dc:title>5.1a</dc:title>
</cp:coreProperties>
</file>